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B92D-8682-4C40-9C02-BE08A20A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6B8-EFDD-45BB-8D67-8541580B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F37-5CB9-442A-8B41-C92EE5EC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3601-8981-4F48-ABAF-F88EADC1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E625-587D-461E-A4A9-B21EF12D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2F0-53BA-407D-870D-1E507857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AF0-112D-48F9-A861-1C7B4F68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4B8-E281-4E0C-838F-AC14FD04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9EE-5ECF-4D16-930F-57AEEDE9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908D-C248-46B2-BFB2-FB421B34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D96-FF8B-4A8B-8C88-66C9DA40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384-0511-4834-A345-54994B71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D1D9A6C1-5A10-4E75-9586-81157A8D3FA7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становка задач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6960" y="1360440"/>
            <a:ext cx="8137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дача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азработать программу, моделирующую жизнь поколений гипотетических колоний живых клеток, которые выживают, размножаются или погибают в соответствии со следующими правил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живая клетка имеет меньше 2 или более 3 соседей в окрестности из 8 клеток то в следующем поколении она умирает (моделирование реальных условий - недостатка питания или перенаселенности), в противном случае она выжива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В пустой клетке появляется живая клетка, если у исходной клетки ровно 3 сос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чем процесс рож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гибели происходит за 1 ш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79880" y="3087720"/>
            <a:ext cx="1981080" cy="885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28960" y="308772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56240" y="4600440"/>
            <a:ext cx="914400" cy="8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560600" y="460044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984240" y="582444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37:34Z</dcterms:modified>
  <cp:revision>2</cp:revision>
  <dc:subject/>
  <dc:title>Слайд 1</dc:title>
</cp:coreProperties>
</file>